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whoosh.wav" ContentType="audio/x-wav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0718-4E05-4A64-B635-34C91BDCE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E8AD-A260-497A-B1B9-FDF380E93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C05F-7985-41DD-9988-4FE4EA248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BA67-D2E8-4DE4-8B8D-75B23AA0A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9E12-CE0E-4B41-BBBF-53017AA5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7664-516A-4A71-8DCF-800356710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7408-7426-490C-A4DA-BCDC4FB13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7CFF-9B36-4D5F-A6B4-5230CCCA2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5F03-956E-4A97-A057-A5E315CED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B98D-4CF1-497C-BC6B-38C0D022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7C68-4002-429D-ABEE-E45C88D1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515A-E154-472F-9295-1B5ED017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4FE99-FE71-4B4B-9AAF-C801EECCAE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image" Target="../media/image6.pct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1 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ethods of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ke Observations and Record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 of Dat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litative Data – data based on observations (not measured); written descri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:  bubbles formed, the color changed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bing animal behav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ke Observations and Record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s of D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ntitative Data – numerical data; gives an amount or quant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: 98.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, 36 kg, 6’10’’ t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ganize &amp; Analyze Dat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aw 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ce data into charts and graphs to represent trend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ier to visualize possible relationships—however, can be created to show relationships that don’t ex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324480" y="4430880"/>
            <a:ext cx="2438640" cy="24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ort Results – State a 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hypothesis is published because several experiments have supported it, is the work complete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No, it needs repeat testing with lots of data by oth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ientists - large numbers reduce the chances of error &amp;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 more reliable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*Communicate Your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sh your findings so that other scientists can use your results to further their stu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ys to Communic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b re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u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ort Results – State a 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If a hypothesis is not disproved by other scientists after much testing, it may become a theo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ory – a broad, general explanation about the natural world based on the results of many experiments-----best explanation for the facts currently availabl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ories are not fact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09680" y="1981080"/>
            <a:ext cx="4724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ature of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ience &amp; Tech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ience (Pure Science)– a body of knowledge gathered through experiences; facts about the natural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s of solving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. Biology, chemistry, geology, zo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ch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ology – applied sc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ts theoretical information to practical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s life easier, helps solve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. Agriculture, medicine, engineering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rs, TV’s, microwa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477120" y="304920"/>
            <a:ext cx="2313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ience vs. Tech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ience is a process in which we solve problems and </a:t>
            </a:r>
            <a:r>
              <a:rPr b="0" lang="en-US" sz="3200" spc="-1" strike="noStrike" u="sng">
                <a:solidFill>
                  <a:srgbClr val="c22dc2"/>
                </a:solidFill>
                <a:uFillTx/>
                <a:latin typeface="Times New Roman"/>
              </a:rPr>
              <a:t>learn something n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ology is the development of products based on scientific knowledge – </a:t>
            </a:r>
            <a:r>
              <a:rPr b="0" lang="en-US" sz="3200" spc="-1" strike="noStrike" u="sng">
                <a:solidFill>
                  <a:srgbClr val="c22dc2"/>
                </a:solidFill>
                <a:uFillTx/>
                <a:latin typeface="Times New Roman"/>
              </a:rPr>
              <a:t>make something n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builds on the 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e the problem/Ask a qu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have some sort of question or problem you want to answ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ally based on an obser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: Why are my Goldfish dy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82880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 of Scientific Knowledge &amp; Tech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itive -  medical equipment, computers, materials, prescription drugs, entertainment, cars, etc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gative – overpopulation, pollution, nuclear weapons, food shortages, depletion of natural resource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600200" y="4952880"/>
            <a:ext cx="2076480" cy="1467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867280" y="4724280"/>
            <a:ext cx="244152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mitations of Sci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ck of needed equipment, skills, or mate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lity of tools – how accurate – how does it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hical/moral questions - should it be don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conomical fa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tical/Legal facto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867280" y="4800600"/>
            <a:ext cx="203220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istics of a Good Scient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urio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sks questions, wants to k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n’t give up, persistent (retes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serv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g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ept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477120" y="3200400"/>
            <a:ext cx="238752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ience literatu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ur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scient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reference 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724280" y="2209680"/>
            <a:ext cx="397512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 a Hypoth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ypothesis - A possible answer to a scientific question based on the facts already known - more than an educated gu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:  I think my fish are dying because 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 their tank with ble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orm an Experi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3818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riment - a process to test a hypothes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 controlled con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:  set up 2 identical tanks and clean o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bleach and one with water -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se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orm an Experi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pendent variable - the variable that is thought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responsible for having 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he variable being test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. Bleach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form an Experi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3818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endent variable - the variable that is measured i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xperi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same in both group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.  Fish death/survival ra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ol Gro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 Control – the group which has no variab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. Tank that was not cleaned with ble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ol Gro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  Why is a control necessar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for comparison to see if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pendent variable had any influe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the res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00:00:44Z</dcterms:created>
  <dc:creator> </dc:creator>
  <dc:description/>
  <dc:language>en-US</dc:language>
  <cp:lastModifiedBy>NHS NPS</cp:lastModifiedBy>
  <dcterms:modified xsi:type="dcterms:W3CDTF">2013-09-06T16:01:04Z</dcterms:modified>
  <cp:revision>20</cp:revision>
  <dc:subject/>
  <dc:title>Chapter 1 Outline</dc:title>
</cp:coreProperties>
</file>